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DBC7-994B-4C9D-B0D3-32644CFBC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F257-89D9-44B2-9EFD-1034CE9D6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3C38-4C61-46C6-A388-65B8790AF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5769-5544-48D7-BFEE-3E1BE3AE3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9B7FC-199E-4448-8775-418E6B5A6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D17D8-1B89-4623-901D-65A809BD6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DC754-BA5C-4043-8473-6F286BAD8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1691A-8AD0-47D4-80D0-436529106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A271A-021F-42FE-A552-9166B9C76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E096E-32B6-4BF5-8DD8-F3967276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4FCE2-461D-4D1B-A409-ABDB9A28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16C7-0334-4401-809E-F47C32642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19482-7930-42D7-B03F-2358D357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906C7-5DF1-4F99-9E46-F1F77E6F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DE774-02E4-447B-A1EB-1D57C31A4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62FB9-5F7E-452F-99FC-8E9458AE7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8BFCD-B36D-463F-BFF8-7484B24B1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437C-CBF4-4A16-971B-2295B4529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1B54-5226-4F6F-A9B8-54AC867F4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DB84-B165-4CA4-9283-4E471ABFE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D931-2787-44E4-AC07-ADEC3B002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87D1-68D1-4960-A3D0-D7F21A50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B267-9279-4A8B-9826-0CAEB87D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349D-C197-444F-A788-878248EE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E179A-3B01-486A-8E72-0B2B4997187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98720" y="2286000"/>
            <a:ext cx="460872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UŁAMKI ZWYKŁ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06678-7DF0-4F86-97C1-83E1C42ED26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85920" y="277344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RÓWNOŚĆ UŁAMKÓ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ĆWICZEN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81280" y="1628640"/>
            <a:ext cx="621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rawdź za pomocą osi liczbowej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równość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ułamkó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581280" y="2732040"/>
            <a:ext cx="1525680" cy="787320"/>
            <a:chOff x="3581280" y="2732040"/>
            <a:chExt cx="1525680" cy="787320"/>
          </a:xfrm>
        </p:grpSpPr>
        <mc:AlternateContent>
          <mc:Choice xmlns:a14="http://schemas.microsoft.com/office/drawing/2010/main" Requires="a14">
            <p:sp>
              <p:nvSpPr>
                <p:cNvPr id="100" name=""/>
                <p:cNvSpPr txBox="1"/>
                <p:nvPr/>
              </p:nvSpPr>
              <p:spPr>
                <a:xfrm>
                  <a:off x="4167360" y="2732040"/>
                  <a:ext cx="939600" cy="78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01" name=""/>
            <p:cNvSpPr/>
            <p:nvPr/>
          </p:nvSpPr>
          <p:spPr>
            <a:xfrm>
              <a:off x="3581280" y="2913120"/>
              <a:ext cx="85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3581280" y="5386320"/>
            <a:ext cx="1525680" cy="787320"/>
            <a:chOff x="3581280" y="5386320"/>
            <a:chExt cx="1525680" cy="787320"/>
          </a:xfrm>
        </p:grpSpPr>
        <mc:AlternateContent>
          <mc:Choice xmlns:a14="http://schemas.microsoft.com/office/drawing/2010/main" Requires="a14">
            <p:sp>
              <p:nvSpPr>
                <p:cNvPr id="103" name=""/>
                <p:cNvSpPr txBox="1"/>
                <p:nvPr/>
              </p:nvSpPr>
              <p:spPr>
                <a:xfrm>
                  <a:off x="4167360" y="5386320"/>
                  <a:ext cx="939600" cy="78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04" name=""/>
            <p:cNvSpPr/>
            <p:nvPr/>
          </p:nvSpPr>
          <p:spPr>
            <a:xfrm>
              <a:off x="3581280" y="5559120"/>
              <a:ext cx="85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3581280" y="3632040"/>
            <a:ext cx="1440000" cy="787320"/>
            <a:chOff x="3581280" y="3632040"/>
            <a:chExt cx="1440000" cy="787320"/>
          </a:xfrm>
        </p:grpSpPr>
        <mc:AlternateContent>
          <mc:Choice xmlns:a14="http://schemas.microsoft.com/office/drawing/2010/main" Requires="a14">
            <p:sp>
              <p:nvSpPr>
                <p:cNvPr id="106" name=""/>
                <p:cNvSpPr txBox="1"/>
                <p:nvPr/>
              </p:nvSpPr>
              <p:spPr>
                <a:xfrm>
                  <a:off x="4208400" y="3632040"/>
                  <a:ext cx="812880" cy="78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07" name=""/>
            <p:cNvSpPr/>
            <p:nvPr/>
          </p:nvSpPr>
          <p:spPr>
            <a:xfrm>
              <a:off x="3581280" y="3781440"/>
              <a:ext cx="85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3581280" y="4508640"/>
            <a:ext cx="1440000" cy="787320"/>
            <a:chOff x="3581280" y="4508640"/>
            <a:chExt cx="1440000" cy="787320"/>
          </a:xfrm>
        </p:grpSpPr>
        <mc:AlternateContent>
          <mc:Choice xmlns:a14="http://schemas.microsoft.com/office/drawing/2010/main" Requires="a14">
            <p:sp>
              <p:nvSpPr>
                <p:cNvPr id="109" name=""/>
                <p:cNvSpPr txBox="1"/>
                <p:nvPr/>
              </p:nvSpPr>
              <p:spPr>
                <a:xfrm>
                  <a:off x="4233960" y="4508640"/>
                  <a:ext cx="787320" cy="78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0" name=""/>
            <p:cNvSpPr/>
            <p:nvPr/>
          </p:nvSpPr>
          <p:spPr>
            <a:xfrm>
              <a:off x="3581280" y="4659480"/>
              <a:ext cx="85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MNOŻENIE NA KRZY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71640" y="1224000"/>
            <a:ext cx="729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ną metodą sprawdzania, czy ułamki są sobie równe je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oda zwana „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metodą na krzy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27000" y="2033640"/>
            <a:ext cx="66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zykła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prawdzamy, czy podane ułamki są sobie rów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2727360" y="2573280"/>
                <a:ext cx="842760" cy="16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4707000" y="2575080"/>
                <a:ext cx="630000" cy="16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 flipV="1">
            <a:off x="3541680" y="3117960"/>
            <a:ext cx="1141560" cy="704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41680" y="3117960"/>
            <a:ext cx="1141560" cy="757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97000" y="454356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nożym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icznik pierwszeg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ułamka przez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ianownik drugieg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czyli: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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3 = 2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97000" y="539748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nożym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ianownik pierwszeg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ułamka przez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icznik drugieg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czyli: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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2 = 2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42000" y="2671920"/>
            <a:ext cx="27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my: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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3 = 12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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02360" y="3068640"/>
            <a:ext cx="19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cc"/>
                </a:solidFill>
                <a:latin typeface="Arial"/>
              </a:rPr>
              <a:t>24 =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5516640" y="3519360"/>
            <a:ext cx="3375000" cy="676440"/>
            <a:chOff x="5516640" y="3519360"/>
            <a:chExt cx="3375000" cy="676440"/>
          </a:xfrm>
        </p:grpSpPr>
        <p:sp>
          <p:nvSpPr>
            <p:cNvPr id="124" name=""/>
            <p:cNvSpPr/>
            <p:nvPr/>
          </p:nvSpPr>
          <p:spPr>
            <a:xfrm>
              <a:off x="5516640" y="3654360"/>
              <a:ext cx="337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Ułamki       i      są rów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5" name=""/>
                <p:cNvSpPr txBox="1"/>
                <p:nvPr/>
              </p:nvSpPr>
              <p:spPr>
                <a:xfrm>
                  <a:off x="6642360" y="3519360"/>
                  <a:ext cx="349200" cy="67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8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6" name=""/>
                <p:cNvSpPr txBox="1"/>
                <p:nvPr/>
              </p:nvSpPr>
              <p:spPr>
                <a:xfrm>
                  <a:off x="7182000" y="3519360"/>
                  <a:ext cx="262080" cy="67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9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9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7T21:58:07Z</dcterms:modified>
  <cp:revision>42</cp:revision>
  <dc:subject/>
  <dc:title>Slajd 1</dc:title>
</cp:coreProperties>
</file>